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42E-E3D5-4172-822B-CE63EDBB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67A-68C0-493B-8278-72874AEB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450-C7AB-4867-A0F3-102D3EDB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C09-4CAA-478B-9ACB-044E31D5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C572D-F113-47B7-A2BE-3236AE94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F5D2E-D328-41F2-A97D-A2D2193E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7F57B-BAD4-4BDD-9DD8-A44C4906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2F39B-3E14-417F-87DE-43B96E27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A7BAF-100C-4ED3-80FE-761CD08C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79FC2-72D6-4DB4-B02A-1D757347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908D1-80E8-4FE3-8990-BFDAB73B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441-1DDB-4801-A831-30D306BB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9574E-45A8-49CD-920D-5AB6432E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1C0F3-1129-47E0-BC3F-A7052D68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DCB09-1DA4-4707-9107-DDE8E733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A28D2-ACC6-4D96-A035-C87075C0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B4BC4-51FB-4B50-B183-41539D0B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581-3936-44BA-A6DB-4E39A070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91C-EBEA-4254-A817-AA242DA9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EBF-C072-47E2-9498-33F7AD12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BBA-B72E-4A46-A39B-C12EBE78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629-F4D1-42BA-82EB-3F8EF912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DD2-0819-4B21-A240-1A892528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6BD-602E-4595-AF02-C9CB102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4A56-003D-4617-8E1E-E9AC729F9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C694-8167-4DC5-B0EF-7CB935EDF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akarta.apache.org/jmeter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Protocols/rfc2616/rfc2616-sec10.html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akarta.apache.org/" TargetMode="External"/><Relationship Id="rId3" Type="http://schemas.openxmlformats.org/officeDocument/2006/relationships/hyperlink" Target="http://jakarta.apache.org/" TargetMode="External"/><Relationship Id="rId4" Type="http://schemas.openxmlformats.org/officeDocument/2006/relationships/hyperlink" Target="http://jakarta.apache.org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akarta.apache.org/jmeter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hnelleinstie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ache JMe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6308640"/>
            <a:ext cx="7193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New Trends in IT – WS06/07 – 04BIM - Thorsten He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JMet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3860640"/>
            <a:ext cx="210492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Zwei Controller Typ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amp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enden Anfragen an einen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TP, HTTP, JDBC, LDAP, SOAP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ogical 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ogische Steuerung der Serveranfra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Only Once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Random Or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ufzeichnen von Requests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Recording Contro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32E-EC23-4477-B6CA-0CA8EFFF7D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Listener and Tim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istener - „Lauscher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ammeln Informationen der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ls Graph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Graph Res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Gesendete Anfragen und deren Antworten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View Results T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rgebnis von Prüfungen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Assertion Res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Gültig für gleiche Ebene und darun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Verzögerung zwischen Requ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Constant Timer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Random Tim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5F6-7ABC-495D-A457-EC4937A6BF2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Assertions und Config. Elemen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Prüfen der Antworten eines Servers (Debugg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 Status Codes: 200 = 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w3.org/Protocols/rfc2616/rfc2616-sec10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ext Auswertungen: „falsches Passwort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Configuration Ele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gabedateien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CSV Data Set Confi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ervername, Port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HTTP Request Defa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Cookies akzeptieren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HTTP Cookie Mana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BDC-DF0B-4614-95C7-C2CFB1A4D38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Aufzeichnen von HTTP Anfra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Workbench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Non Test Elements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HTTP Prox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ort einstellen, z.B. 999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roxy im Browser konfigurier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ocalhost:999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Filter von Anfragen mit Regulären Ausdrüc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Grafiken und Stylesheets ( .\.css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Checkbox „RegExp“ aktiv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Uniform Random Timer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unterhalb des Prox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maximum milliseconds count: ${T}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C64-1137-4A0E-8597-1859A63D2C6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Aufzeichnen von HTTP Anfra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cc00"/>
                </a:solidFill>
                <a:latin typeface="Tahoma"/>
              </a:rPr>
              <a:t>Recording Controller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in den Testplan einfü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Proxy starten und Anfragen durchfüh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imer der aufgezeichneten Anfragen anp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Achtung Workbench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Proxy in den Testplan verschie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94C-4F14-457B-AE09-CB732C56B05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Tests mit dynamischen Dat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CSV Datei mit Anmeldeinformationen erstellen</a:t>
            </a:r>
            <a:br>
              <a:rPr sz="2800"/>
            </a:b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testuser,testpass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nmeldung aufzeichnen (</a:t>
            </a: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HTTP Proxy Server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CSV Data Set Config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in die </a:t>
            </a: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Thread 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ateinamen und Dateiformat angeben: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USER,P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03280" y="4797360"/>
            <a:ext cx="6048360" cy="18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13A-C535-4821-BFD6-6F783879BBE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Tests mit dynamischen Dat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989000"/>
            <a:ext cx="7848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erte im Anmelderequest mit den Variablen ersetz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Listen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View Results Tre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Summary Repo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58920" y="3068640"/>
            <a:ext cx="7010280" cy="116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DD4-2E97-4D46-8DB8-C62ABAD4004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Tests mit dynamischen Dat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42160" cy="5156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35280" y="4581360"/>
            <a:ext cx="4969080" cy="71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AC2-5F7F-4DA2-8942-ECE21FB9648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Live Demo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infacher Aufruf einer HTTP Se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ufzeichnen einer Anmeldung im eStudy Por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Nutzung einer CSV-Eingabedatei für Benutzernamen und Passw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bspielen eines Testsplans mit Aufzeichnung von Da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A9F-905B-4BAF-826C-252A68FF4CC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Faz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Bedienung nicht sehr intuiti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Interpretation der Ergebnisse schwier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Graphen nicht wirklich „hübsch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Vielleicht lohnt es, sich Open STA als Alternative anzuschau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iki-Artikel bei eStud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s://wiki.estudy-portal.de/index.php/JM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90A-B0BE-4E34-81B8-66777F1627C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nhal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as ist JMe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ystemvoraussetzung, Instal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lemente eines Testpl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eb-Anfragen aufzeich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ests mit dynamischen Da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ive Demo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Faz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9C8-A7C8-4C8E-BF90-63FF15C800F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Qu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JMeter Homepage und User Manual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ttp://jakarta.apache.org/jmeter/ [Zugriff am 16.1.06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ttp://jakarta.apache.org/jmeter/usermanual/index.html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[Zugriff am 16.1.06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nformit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ttp://www.informit.com/guides/content.asp?g=java&amp;seqNum=268&amp;rl=1 [7.7.06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ikip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ttp://de.wikipedia.org/w/index.php?title=JMeter&amp;oldid=25323224 [19.12.06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ttp://en.wikipedia.org/w/index.php?title=JMeter&amp;oldid=91500470 [2.12.06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FF0-D01B-4AFB-A44C-4C2A0F305EF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BC6-58E4-46DF-AC69-1A599A27F59A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Der Apache JMeter ist ein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erkzeug fü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asttests (Anwortzeitverhal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unktions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von Client/Server-Anwendun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, HTTPS, FTP, SOAP, Java Servlets, CGI Scri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JDBC (Java Database Connectivi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JNDI (Java Naming and Directory Interfa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DAP (Lightweight Directory Access Protocol), DNS (Domain Name System), NIS (Network Information Service), CORBA, Dateisyste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eiter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ECD-25D8-4230-A643-B3C1069638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Entstehungsgeschich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rste Version von Stefano Mazzocch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asttests für Apache JServ (später Tom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eiterentwickelt vom Apache Jakarta Proje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GUI, Funktions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as Apache Jakarta Proje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de-DE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jakarta.apache.org</a:t>
            </a:r>
            <a:r>
              <a:rPr b="0" lang="de-DE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Open Source Java-Lösu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0FA-2D93-4B62-8141-2A8EA85B09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Voraussetzun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JMeter ist eine Java Anwend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Java Development Kit (JDK) &gt; Verision 1.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mpfehlung &gt; Version 1.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Unterstützte Betriebssyste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Unix (Solaris, Linux, 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indows (98, NT, 2000, X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OpenVMS Alpha 7.3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694-55CB-4F79-8FA0-8FD0842C2A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nstallation und Ausführu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ownload von http://jakarta.apache.org/jmeter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jakarta.apache.org/jmeter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Keinen Pfad mit Leerzeichen verwende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esser englisches OS verwende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usführu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GUI: JMETER.BAT (Windows) bzw. jmeter (Unix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Non-GUI Mode (nicht interaktiv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erver Mode (verteilte Test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BCF-2F95-4EF5-9AA9-1E6A3FB1ED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Die GU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27280" y="1413000"/>
            <a:ext cx="6324480" cy="5257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748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est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orkbench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(Zwischen-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bla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ABB-4301-40F2-AA1C-E2EEFF9D182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Testplan und Thread Gro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estplan ist hierarchisch aufgeba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hread Group: Oberste Eb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Gruppiert die Elemente eines Testpl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instellungen Thread Grou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nzahl Threa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amp-up Period“: Zeit bis alle Threads lauf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10 Threads, Ramp-up 100 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Alle 10 Sekunden 1 Thr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nzahl Wiederholu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B68-C4A3-4D5A-AC22-0E97782AED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Bestandteile eines Testpl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amp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ogical Contro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istener („Lauscher“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Configuration Ele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re-Processor Ele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ost-Processor Ele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84B-98AF-403C-A5C2-DED4143E0C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07:33:27Z</dcterms:created>
  <dc:creator>Thorsten Heil</dc:creator>
  <dc:description/>
  <dc:language>en-US</dc:language>
  <cp:lastModifiedBy>Thorsten Heil</cp:lastModifiedBy>
  <dcterms:modified xsi:type="dcterms:W3CDTF">2007-01-24T15:44:55Z</dcterms:modified>
  <cp:revision>51</cp:revision>
  <dc:subject/>
  <dc:title>Informierte Suche und Expl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